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B6A8-8C1A-41E4-A8AC-77197B51E666}" type="slidenum"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4341-1C5D-4AFB-B123-734F71E85135}" type="slidenum">
              <a:rPr b="0" lang="cy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EBEA-C1E6-4F10-B463-2C254998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880E-D6D2-45B2-B8FD-78F567BB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336C-55ED-49A8-BF80-DC7134A4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5730-E245-425F-9E61-86CC3130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36FB-537A-43BF-8CD0-20D6FC6D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D0B5-C73D-4F4E-B528-03F1DD4D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6939-1855-4A72-8920-2E30F544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7389-9A68-4304-A848-531488D7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825A-F82C-4690-8237-BE48F9E3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8E95-ED4F-4943-84D8-4A3C5E46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45F5-8E28-4B5E-80FF-12CFB88C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12E9-A322-42ED-B58D-93AD13C5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DE53-41B8-4AB4-9F7D-CBCCAAE7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3C68-9FB1-4343-A1A2-BBC640F0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13FC-BEC1-4210-95A9-452CFB6D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09E6-4228-4627-8EFE-ED7B6238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6BA2-A0FA-4F8B-9F11-1F673049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BF34D-7313-42E4-9639-CD97F5BE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4C409-59BF-4D3D-B143-81955898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D89D1-BD1A-4B34-8403-6198A135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C9AA9-C470-457B-B2C7-1F272973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96316-0D1A-454B-9547-F7F83F8C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B313-EF6D-4EE9-A0FB-58396E39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DA3BB-BAED-4D94-A509-C9E181F7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1FB99-006A-4701-BFA2-7B7EE2AA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4254F-1FAA-4FA9-93F7-89D124D1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EA8CE-F49A-4736-BE48-7E13EE6A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26099-3757-4E6E-A745-4DA933F5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4D71B-60CA-43E2-ADC3-DBF395B1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A5A00-8B2A-4BD1-B4A6-63649397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F419E-2A53-4FE1-B978-018EE1AE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B9AB1-4F11-4467-93C7-89F4335B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A78E2-DB31-47B7-A23C-6C476EF7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4EF-338B-4639-830A-986633F2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FDA30-45BE-4C84-913C-CD1BBDAA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F488F-0BE7-4EA9-B439-C26C5B3D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C6D69-52DF-4178-9932-58BC1BFA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99B6E-019B-4052-9BEE-499AC5CD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E2348-77E1-43B4-80B5-3975BE8E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429B4-7147-4C41-B863-F7BE2617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9BA2D-018E-4CE0-8DF6-CE6B4EEB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A62A5-2B20-4B76-8EDF-D3502599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3A1AE-EC00-4A1F-BB9A-8318EE35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882F2-6CB0-4BE0-9BB5-9AC433CB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EEE-A328-4C99-AB04-C71AC6CB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F666E-2A69-4457-85A1-EDDB9D2F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B42ED-1A19-4B93-A95B-C3F6A427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4D030-E911-4E1F-B069-14C350FC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541C0-0D88-43E1-BA65-E1A9FEFE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77734-2C56-449E-BA40-241E17AC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C32A8-E13B-4C63-9145-5995298B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25BD0-0EE5-48CB-BE26-B37314CB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40DB3-D611-4B5E-801B-829B9435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4911A-EFCA-4243-B82F-C12B73AA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A8E52-EAF1-4926-9F92-383C3725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2489-ACFC-4D20-A652-396BB7E1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4D538-C891-42F1-B6E9-C47AB189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6652F-AE1B-4354-BA14-5DE0173A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45A6B-6106-4803-BD07-1D9F0C46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76E47-06B2-43BE-997B-E8B7D179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6F78B-D699-48C1-A3C1-A3C542E6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E8D59-A0D5-4C5B-95AC-8E25BA5F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91FD0-D14E-45D0-9847-0D3DAEB6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09401-4BBB-436E-A32D-EA9B92EE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B940C-F955-4B2E-8B8A-C6FC5749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AA6F4-1A63-4011-9D62-731E3702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C4AF-7ABD-4677-BFD0-69B019D1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2BDE2-28F2-4BFE-9EEF-04714843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9D7A5-F79B-4225-885C-0EFACC1A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B9C29-401F-4547-AA34-A2DDDB2D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869A6-C0EF-43E9-AF0C-4ABEFAA4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65CB1-8691-4ABA-B4EE-4C737D59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4EC3E-B420-411F-89DF-EF154034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5ACCD-CEBE-49A8-998D-0FB0B643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BD152-3D4E-4722-97ED-7193B145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1A685-BE33-4A6A-AC8C-529660FB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72212-20F0-4C86-9524-4B56236B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6B8-81F6-4B28-A769-F7809D52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C1942-7311-4CD9-B49C-45392F6F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BD809-9173-443B-8C7A-92575046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19915-04A1-4AB1-835B-93C3AF8F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5077E-4373-4D40-A7C7-942FA59C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025BE-F12E-4A94-81F0-8FDBBCE4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D19-4535-4079-AC7E-339210AC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A209-4820-4593-99C4-C696A7F8D6F1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ED57-FE8E-4A94-A686-9BDF105CB794}" type="slidenum">
              <a:rPr b="0" lang="en-GB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0D21-6072-430E-9241-14B8721FD628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8198-422A-43DB-88CF-8BF292C405F2}" type="slidenum">
              <a:rPr b="0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B6B1-F5BE-475D-9D5F-039DFFFD89FE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7F32-DDFE-4FD8-98A3-D914335080D0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749A-7632-49E0-8F85-1660CC449100}" type="slidenum">
              <a:rPr b="0" lang="en-GB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542880" y="658800"/>
            <a:ext cx="8472600" cy="1882800"/>
          </a:xfrm>
          <a:prstGeom prst="rect">
            <a:avLst/>
          </a:prstGeom>
          <a:ln w="0">
            <a:noFill/>
          </a:ln>
        </p:spPr>
      </p:pic>
      <p:pic>
        <p:nvPicPr>
          <p:cNvPr id="309" name="Subtitle 2" descr=""/>
          <p:cNvPicPr/>
          <p:nvPr/>
        </p:nvPicPr>
        <p:blipFill>
          <a:blip r:embed="rId2"/>
          <a:stretch/>
        </p:blipFill>
        <p:spPr>
          <a:xfrm>
            <a:off x="542880" y="2170080"/>
            <a:ext cx="8163000" cy="1835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http://www.stephensizer.com/wp-content/uploads/2013/10/23-dragonsden.jpg"/>
          <p:cNvPicPr/>
          <p:nvPr/>
        </p:nvPicPr>
        <p:blipFill>
          <a:blip r:embed="rId3"/>
          <a:stretch/>
        </p:blipFill>
        <p:spPr>
          <a:xfrm>
            <a:off x="0" y="3235320"/>
            <a:ext cx="9144000" cy="3622680"/>
          </a:xfrm>
          <a:prstGeom prst="rect">
            <a:avLst/>
          </a:prstGeom>
          <a:ln w="0">
            <a:noFill/>
          </a:ln>
        </p:spPr>
      </p:pic>
      <p:sp>
        <p:nvSpPr>
          <p:cNvPr id="311" name="Footer Placeholder 3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entury Gothic"/>
              </a:rPr>
              <a:t>A 1.1.1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Plan!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Decide who is going to be the lead person or whether you’re going to present as a team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Making a good </a:t>
            </a: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pitch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is an essential form of </a:t>
            </a: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marketing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for a </a:t>
            </a: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small business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because it gets your ideas across to potential </a:t>
            </a: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customers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and </a:t>
            </a: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investors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Use a multi media approach: power point, display or poster, prototype , photographic images/vide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1060200" cy="66088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Create a positive visual effec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6" name="Picture 2" descr="http://i.telegraph.co.uk/multimedia/archive/02073/Team-Atomic-Pitch_2073634b.jpg"/>
          <p:cNvPicPr/>
          <p:nvPr/>
        </p:nvPicPr>
        <p:blipFill>
          <a:blip r:embed="rId2"/>
          <a:srcRect l="12377" t="0" r="12377" b="0"/>
          <a:stretch/>
        </p:blipFill>
        <p:spPr>
          <a:xfrm>
            <a:off x="1138320" y="374760"/>
            <a:ext cx="7334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when </a:t>
            </a: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presenting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, never  read directly off the slides 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never put too much information onto the slide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make it no more than 7 slides, no longer than 10 minutes and size 30 font. You should start preparing the </a:t>
            </a: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pitch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weeks in advance and never at the last minut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void complex transitions and animations. Keep it simple 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Use a story to get your points across and to show the audience what your product can d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e more you can allow the listener to picture using the product the more likely they will be to take action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Be passionate about your product and that you know enough about it to be able to answer any questions people may ask you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Be professional in manner and appearanc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http://newsimg.bbc.co.uk/media/images/42647000/jpg/_42647787_levi_roots_203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53830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2"/>
          <p:cNvSpPr/>
          <p:nvPr/>
        </p:nvSpPr>
        <p:spPr>
          <a:xfrm>
            <a:off x="324000" y="57326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Levi Roots made a successful pitch earning a £50,000 investment from the Dragons</a:t>
            </a:r>
            <a:r>
              <a:rPr b="0" lang="en-GB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Rehearse your pitch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Practice all transitions and timing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Be clear and audib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Vary the tone of your voic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Use eye contact 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Structure your pitch with a dynamic opening and memorable closure which highlights the USP of your product or servic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0T21:15:16Z</dcterms:created>
  <dc:creator>Eirian Evans</dc:creator>
  <dc:description/>
  <dc:language>en-US</dc:language>
  <cp:lastModifiedBy> </cp:lastModifiedBy>
  <dcterms:modified xsi:type="dcterms:W3CDTF">2015-08-31T10:12:38Z</dcterms:modified>
  <cp:revision>6</cp:revision>
  <dc:subject/>
  <dc:title>Enterprise and Employability.</dc:title>
</cp:coreProperties>
</file>